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23FD2-2A6F-4D46-B120-B9B338F8F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0DAF1-DD6B-4560-A628-636EF86DE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10F2A-ACF5-4A01-A6C3-92677999D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8974D-A3B0-4C65-AE33-C667F526E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A11CFA5-8C1F-4C8B-A727-9965F8973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0E4EA86-5B13-4BD3-933C-A3D7EE46D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A38A8D-4F2A-4A3D-9DB3-B1E4EFDCF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4AB9589-A973-4B8F-A0E4-39E5C13DB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98F528-87BB-48C7-AC53-3E66DA0D3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B8FB2FB-4F7D-490C-8000-3D80D9FCD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937F9CB-674B-4541-AA1C-3284AE327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1C978-6D11-418A-9ABA-E2E649F21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731842-A722-4C8B-AF3E-D27BFDBF0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DB6229-958C-412A-901F-3693C9142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2B8AD29-1200-4A9D-9D40-481CB3C4A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1470CCF-1294-467B-AE32-8D8CD6FE80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AEE3051-12E2-42BC-BA0D-9680AA22C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32A9C-18E8-4B9E-84C5-2B489406B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1B706-34E6-4508-9EBF-6F1630CBE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84E0B-9952-48FC-B493-B488EDAD5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45D11-31E8-4636-8E8F-F5EB8903F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5F60F-40BE-40BC-8DEF-E322EE30D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00F48-C898-42B4-BDC1-C71C94CE4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5DD35-12B2-43C7-B56C-86F864284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1A84-B89E-436A-9B3E-B4A95FDAFAA6}"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7DA6-09E9-48D7-B10B-7F82179292E9}"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4</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قود التأمين</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638680" y="685440"/>
            <a:ext cx="3200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سعار الفائدة الحالي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سمح لشركة التامين ان تغير سياستها المحاسبية للدرجة التى تعيد بها قياس التزامات التامين المعنية لتعكس اسعار الفائدة السوقية الحالية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يجب الاعتراف بهذة التغيرات فى الالتزامات وتسجيلها كربح او خسارة </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800240" y="609120"/>
            <a:ext cx="38862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ستمرار الممارسات القائمة</a:t>
            </a:r>
            <a:endParaRPr b="0" lang="en-US" sz="32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مكن لشركة التامين الاستمرار فى الممارسات التالية ولكن دون السماح ببدء احداها</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تزامات التامين على اساس عير مخصوم</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حقوق التعاقدية لرسوم الاستثمار المستقبلية بمبلغ يتجاوز قيمتها العادلة بالمقارنة بالسوقية</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1189080"/>
            <a:ext cx="9144000" cy="366840"/>
          </a:xfrm>
          <a:prstGeom prst="rect">
            <a:avLst/>
          </a:prstGeom>
          <a:noFill/>
          <a:ln w="0">
            <a:noFill/>
          </a:ln>
        </p:spPr>
        <p:style>
          <a:lnRef idx="0"/>
          <a:fillRef idx="0"/>
          <a:effectRef idx="0"/>
          <a:fontRef idx="minor"/>
        </p:style>
        <p:txBody>
          <a:bodyPr lIns="90000" rIns="90000" tIns="46800" bIns="46800" anchor="ctr">
            <a:spAutoFit/>
          </a:bodyPr>
          <a:p>
            <a:pPr rtl="1">
              <a:buClr>
                <a:srgbClr val="ffffff"/>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1"/>
          <p:cNvSpPr>
            <a:spLocks noGrp="1"/>
          </p:cNvSpPr>
          <p:nvPr>
            <p:ph type="title"/>
          </p:nvPr>
        </p:nvSpPr>
        <p:spPr>
          <a:xfrm>
            <a:off x="6629040" y="761760"/>
            <a:ext cx="205740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حاسبة الظل</a:t>
            </a:r>
            <a:endParaRPr b="0" lang="en-US" sz="3200" spc="-1" strike="noStrike">
              <a:solidFill>
                <a:srgbClr val="e3e3ff"/>
              </a:solidFill>
              <a:latin typeface="Arial"/>
            </a:endParaRPr>
          </a:p>
        </p:txBody>
      </p:sp>
      <p:sp>
        <p:nvSpPr>
          <p:cNvPr id="145"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fontScale="84000"/>
          </a:bodyPr>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اح لشركات التامين تغيير سياساتها المحاسبية للدرجة التى يمكن الاعتراف بربح او خسارة غير محققة على </a:t>
            </a:r>
            <a:r>
              <a:rPr b="1" lang="ar-EG" sz="2800" spc="-1" strike="noStrike">
                <a:solidFill>
                  <a:srgbClr val="ffffff"/>
                </a:solidFill>
                <a:latin typeface="Arial"/>
              </a:rPr>
              <a:t>أ</a:t>
            </a:r>
            <a:r>
              <a:rPr b="1" lang="ar-SA" sz="2800" spc="-1" strike="noStrike">
                <a:solidFill>
                  <a:srgbClr val="ffffff"/>
                </a:solidFill>
                <a:latin typeface="Arial"/>
              </a:rPr>
              <a:t>صول تقاس الارباح والخسائر بنفس الطريق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التسويات ذات العلاقة على التزامات التامين </a:t>
            </a:r>
            <a:r>
              <a:rPr b="1" lang="ar-EG" sz="2800" spc="-1" strike="noStrike">
                <a:solidFill>
                  <a:srgbClr val="ffffff"/>
                </a:solidFill>
                <a:latin typeface="Arial"/>
              </a:rPr>
              <a:t>أ</a:t>
            </a:r>
            <a:r>
              <a:rPr b="1" lang="ar-SA" sz="2800" spc="-1" strike="noStrike">
                <a:solidFill>
                  <a:srgbClr val="ffffff"/>
                </a:solidFill>
                <a:latin typeface="Arial"/>
              </a:rPr>
              <a:t>و بنود الميزانية الاخرى سوف يتم الاعتراف بها مباشرة فى حقوق الملكية ويطلق على هذ</a:t>
            </a:r>
            <a:r>
              <a:rPr b="1" lang="ar-EG" sz="2800" spc="-1" strike="noStrike">
                <a:solidFill>
                  <a:srgbClr val="ffffff"/>
                </a:solidFill>
                <a:latin typeface="Arial"/>
              </a:rPr>
              <a:t>ه</a:t>
            </a:r>
            <a:r>
              <a:rPr b="1" lang="ar-SA" sz="2800" spc="-1" strike="noStrike">
                <a:solidFill>
                  <a:srgbClr val="ffffff"/>
                </a:solidFill>
                <a:latin typeface="Arial"/>
              </a:rPr>
              <a:t> الممارسة محاسبة الظل</a:t>
            </a:r>
            <a:r>
              <a:rPr b="1" lang="ar-EG" sz="2800" spc="-1" strike="noStrike">
                <a:solidFill>
                  <a:srgbClr val="ffffff"/>
                </a:solidFill>
                <a:latin typeface="Arial"/>
              </a:rPr>
              <a:t>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81320" y="304560"/>
            <a:ext cx="17290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3200" spc="-1" strike="noStrike">
                <a:solidFill>
                  <a:srgbClr val="ffff00"/>
                </a:solidFill>
                <a:latin typeface="Arial"/>
              </a:rPr>
              <a:t> </a:t>
            </a:r>
            <a:endParaRPr b="0" lang="en-US" sz="3200" spc="-1" strike="noStrike">
              <a:solidFill>
                <a:srgbClr val="e3e3ff"/>
              </a:solidFill>
              <a:latin typeface="Arial"/>
            </a:endParaRPr>
          </a:p>
        </p:txBody>
      </p:sp>
      <p:sp>
        <p:nvSpPr>
          <p:cNvPr id="147" name=""/>
          <p:cNvSpPr/>
          <p:nvPr/>
        </p:nvSpPr>
        <p:spPr>
          <a:xfrm>
            <a:off x="685800" y="990720"/>
            <a:ext cx="8001000" cy="1728360"/>
          </a:xfrm>
          <a:prstGeom prst="rect">
            <a:avLst/>
          </a:prstGeom>
          <a:noFill/>
          <a:ln w="0">
            <a:noFill/>
          </a:ln>
        </p:spPr>
        <p:style>
          <a:lnRef idx="0"/>
          <a:fillRef idx="0"/>
          <a:effectRef idx="0"/>
          <a:fontRef idx="minor"/>
        </p:style>
        <p:txBody>
          <a:bodyPr lIns="90000" rIns="90000" tIns="46800" bIns="46800" anchor="t">
            <a:spAutoFit/>
          </a:bodyPr>
          <a:p>
            <a:pPr algn="r"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ح المبالغ المعترف بها</a:t>
            </a:r>
            <a:r>
              <a:rPr b="1" lang="ar-SA" sz="2400" spc="-1" strike="noStrike">
                <a:solidFill>
                  <a:srgbClr val="ffff00"/>
                </a:solidFill>
                <a:latin typeface="Arial"/>
              </a:rPr>
              <a:t> </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افصاح عن المعلومات التى تحدد وتفسر المبالغ الواردة فى قوائمها المالية الناشئة عن عقود التأمين .</a:t>
            </a:r>
            <a:endParaRPr b="0" lang="en-US" sz="2400" spc="-1" strike="noStrike">
              <a:solidFill>
                <a:srgbClr val="ffffff"/>
              </a:solidFill>
              <a:latin typeface="Arial"/>
            </a:endParaRPr>
          </a:p>
        </p:txBody>
      </p:sp>
      <p:sp>
        <p:nvSpPr>
          <p:cNvPr id="148" name=""/>
          <p:cNvSpPr/>
          <p:nvPr/>
        </p:nvSpPr>
        <p:spPr>
          <a:xfrm>
            <a:off x="914400" y="2511360"/>
            <a:ext cx="8001000" cy="5462280"/>
          </a:xfrm>
          <a:prstGeom prst="rect">
            <a:avLst/>
          </a:prstGeom>
          <a:noFill/>
          <a:ln w="0">
            <a:noFill/>
          </a:ln>
        </p:spPr>
        <p:style>
          <a:lnRef idx="0"/>
          <a:fillRef idx="0"/>
          <a:effectRef idx="0"/>
          <a:fontRef idx="minor"/>
        </p:style>
        <p:txBody>
          <a:bodyPr lIns="90000" rIns="90000" tIns="46800" bIns="46800" anchor="t">
            <a:spAutoFit/>
          </a:bodyPr>
          <a:p>
            <a:pPr marL="357120" indent="-357120" algn="r" rtl="1">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إفصاح عن سياساتها المحاسبية المطبقة على عقود التأمين وما يتصل بها من أصول والتزامات وإيرادات ومصروفات.</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الأرباح  والخسائر المعترف بها ضمن الأرباح أو الخسائر عن شراء إعادة التأمين.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ذا كان معيد التأمين الصادر يقوم بتأجيل واستهلاك الأرباح والخسائر الناشئة عن شراء إعادة التأمين فيتعين عليه الإفصاح عن قيمة الاستهلاك عن الفترة والجزء غير المستهلك فى بداية  ونهاية الفترة.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سوية للتغيرات فى التزامات التأمين وأصول إعادة  التأمين وما يتصل بها من تكاليف الاقتناء المؤجلة إن وجد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723920" y="1371240"/>
            <a:ext cx="403884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ختبار مدى كفاية الالتزامات</a:t>
            </a:r>
            <a:endParaRPr b="0" lang="en-US" sz="3200" spc="-1" strike="noStrike">
              <a:solidFill>
                <a:srgbClr val="e3e3ff"/>
              </a:solidFill>
              <a:latin typeface="Arial"/>
            </a:endParaRPr>
          </a:p>
        </p:txBody>
      </p:sp>
      <p:sp>
        <p:nvSpPr>
          <p:cNvPr id="150" name="PlaceHolder 2"/>
          <p:cNvSpPr>
            <a:spLocks noGrp="1"/>
          </p:cNvSpPr>
          <p:nvPr>
            <p:ph/>
          </p:nvPr>
        </p:nvSpPr>
        <p:spPr>
          <a:xfrm>
            <a:off x="533520" y="2286000"/>
            <a:ext cx="8229600" cy="320040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شركة التأمين أن تقوم فى كل تاريخ لإعداد التقارير المالية بتقييم مدى كفاية التزاماتها التأمينية المعترف بها،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ذلك بإستخدام التقديرات الحالية للتدفقات النقدية المستقبلية بموجب عقود التأمين الخاصة بها .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يتم قيد العجز برمته ضمن الأرباح أو الخسائ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2520" y="1219320"/>
            <a:ext cx="10611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دفقات النقدية وتوقيتاتها وظروف عدم التأكد المتعلقة بها  </a:t>
            </a:r>
            <a:endParaRPr b="0" lang="en-US" sz="2800" spc="-1" strike="noStrike">
              <a:solidFill>
                <a:srgbClr val="ffffff"/>
              </a:solidFill>
              <a:latin typeface="Arial"/>
            </a:endParaRPr>
          </a:p>
        </p:txBody>
      </p:sp>
      <p:sp>
        <p:nvSpPr>
          <p:cNvPr id="152" name=""/>
          <p:cNvSpPr/>
          <p:nvPr/>
        </p:nvSpPr>
        <p:spPr>
          <a:xfrm>
            <a:off x="609480" y="1981080"/>
            <a:ext cx="815364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على شركة التأمين أن تفصح عن المعلومات التى تساعد المستخدمين على فهم قيم التدفقات النقدية المستقبلية الناشئة عن عقود التأمين وتوقيتاتها ومدى عدم التأكد فى تحققها .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على شركة  التأمين ان تفصح عما يلى :</a:t>
            </a:r>
            <a:endParaRPr b="0" lang="en-US" sz="2000" spc="-1" strike="noStrike">
              <a:solidFill>
                <a:srgbClr val="ffffff"/>
              </a:solidFill>
              <a:latin typeface="Arial"/>
            </a:endParaRPr>
          </a:p>
        </p:txBody>
      </p:sp>
      <p:sp>
        <p:nvSpPr>
          <p:cNvPr id="153" name=""/>
          <p:cNvSpPr/>
          <p:nvPr/>
        </p:nvSpPr>
        <p:spPr>
          <a:xfrm>
            <a:off x="457200" y="3429000"/>
            <a:ext cx="8229600" cy="222840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EG" sz="2000" spc="-1" strike="noStrike">
                <a:solidFill>
                  <a:srgbClr val="ffffff"/>
                </a:solidFill>
                <a:latin typeface="Arial"/>
              </a:rPr>
              <a:t>أهدافها فى إدارة المخاطر الناشئة عن عقود التأمين وسياستها المتبعة لتخفيف حدة تلك المخاطر.</a:t>
            </a:r>
            <a:r>
              <a:rPr b="1" lang="ar-SA" sz="2000" spc="-1" strike="noStrike">
                <a:solidFill>
                  <a:srgbClr val="ffffff"/>
                </a:solidFill>
                <a:latin typeface="Arial"/>
              </a:rPr>
              <a:t>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شروط وأحكام عقود التأمين التى لها أثر هام على مبالغ وتوقيتات ومدى عدم التأكد فى تحقق التدفقات النقدية المستقبلية الخاصة بشركة التأمين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a:t>
            </a:r>
            <a:r>
              <a:rPr b="1" lang="ar-EG" sz="2000" spc="-1" strike="noStrike">
                <a:solidFill>
                  <a:srgbClr val="ffffff"/>
                </a:solidFill>
                <a:latin typeface="Arial"/>
              </a:rPr>
              <a:t>	</a:t>
            </a:r>
            <a:r>
              <a:rPr b="1" lang="ar-EG" sz="2000" spc="-1" strike="noStrike">
                <a:solidFill>
                  <a:srgbClr val="ffffff"/>
                </a:solidFill>
                <a:latin typeface="Arial"/>
              </a:rPr>
              <a:t>معلومات بشأن مخاطر التأمين (قبل وبعد التخفيف من حدة المخاطر عن طريق إعادة التأمين)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600" y="1523520"/>
            <a:ext cx="327672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ات</a:t>
            </a:r>
            <a:endParaRPr b="0" lang="en-US" sz="3200" spc="-1" strike="noStrike">
              <a:solidFill>
                <a:srgbClr val="e3e3ff"/>
              </a:solidFill>
              <a:latin typeface="Arial"/>
            </a:endParaRPr>
          </a:p>
        </p:txBody>
      </p:sp>
      <p:sp>
        <p:nvSpPr>
          <p:cNvPr id="124" name="PlaceHolder 2"/>
          <p:cNvSpPr>
            <a:spLocks noGrp="1"/>
          </p:cNvSpPr>
          <p:nvPr>
            <p:ph/>
          </p:nvPr>
        </p:nvSpPr>
        <p:spPr>
          <a:xfrm>
            <a:off x="2437920" y="2437920"/>
            <a:ext cx="4419720" cy="259092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عتراف والقياس</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68544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609480" y="2971440"/>
            <a:ext cx="8229600" cy="2971800"/>
          </a:xfrm>
          <a:prstGeom prst="rect">
            <a:avLst/>
          </a:prstGeom>
          <a:noFill/>
          <a:ln w="0">
            <a:noFill/>
          </a:ln>
        </p:spPr>
        <p:txBody>
          <a:bodyPr lIns="90000" rIns="90000" tIns="46800" bIns="46800" anchor="t">
            <a:normAutofit fontScale="95000"/>
          </a:bodyPr>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طاق محدود من التعديلات التى يتم إدخالها على نظم المحاسبة فى شركات التأمين فيما يتصل بعقود التأمين.</a:t>
            </a:r>
            <a:endParaRPr b="0" lang="en-US" sz="2400" spc="-1" strike="noStrike">
              <a:solidFill>
                <a:srgbClr val="ffffff"/>
              </a:solidFill>
              <a:latin typeface="Arial"/>
            </a:endParaRPr>
          </a:p>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فصاح الذى يحدد و يوضح المبالغ التى تظهر فى القوائم المالية الخاصة بشركة التأمين والتى تنشأ عن عقود التأمين بما يساعد مستخدمى القوائم المالية فى فهم قيم و توقيتات ومدى عدم التأكد فى التدفقات النقدية المستقبلية عن عقود التأمين.</a:t>
            </a:r>
            <a:endParaRPr b="0" lang="en-US" sz="2400" spc="-1" strike="noStrike">
              <a:solidFill>
                <a:srgbClr val="ffffff"/>
              </a:solidFill>
              <a:latin typeface="Arial"/>
            </a:endParaRPr>
          </a:p>
        </p:txBody>
      </p:sp>
      <p:sp>
        <p:nvSpPr>
          <p:cNvPr id="127" name=""/>
          <p:cNvSpPr/>
          <p:nvPr/>
        </p:nvSpPr>
        <p:spPr>
          <a:xfrm>
            <a:off x="609480" y="1676520"/>
            <a:ext cx="8077320" cy="17391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هدف هذا المعيار إلى تحديد طريقة إعداد التقارير المالية الخاصة بعقود التأمين من قبل أية منشأة تصدر مثل هذه العقود (والمذكورة فى هذا المعيار باسم "شركة التأمين") ويتطلب هذا المعيار على وجه الخصوص مايل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477120" y="685440"/>
            <a:ext cx="22096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304920" y="2209680"/>
            <a:ext cx="8534160" cy="3733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لى المنشأة أن تطبق هذا المعيار على ما يلى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قود التأمين (بما فى ذلك عقود إعادة التأمين) </a:t>
            </a:r>
            <a:r>
              <a:rPr b="1" lang="ar-EG" sz="3200" spc="-1" strike="noStrike">
                <a:solidFill>
                  <a:srgbClr val="ffffff"/>
                </a:solidFill>
                <a:latin typeface="Arial"/>
              </a:rPr>
              <a:t>.</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أدوات المالية التى تصدرها</a:t>
            </a:r>
            <a:r>
              <a:rPr b="1" lang="ar-EG" sz="3200" spc="-1" strike="noStrike">
                <a:solidFill>
                  <a:srgbClr val="ffffff"/>
                </a:solidFill>
                <a:latin typeface="Arial"/>
              </a:rPr>
              <a:t> الشركة</a:t>
            </a:r>
            <a:r>
              <a:rPr b="1" lang="ar-SA" sz="3200" spc="-1" strike="noStrike">
                <a:solidFill>
                  <a:srgbClr val="ffffff"/>
                </a:solidFill>
                <a:latin typeface="Arial"/>
              </a:rPr>
              <a:t>.</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85800" y="1882800"/>
            <a:ext cx="8001000" cy="265428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لا تنطبق أحكام هذا المعيار على ما يلى  :</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ضمانات المنتجات الصادرة مباشرة من المصنع ، أو تاجر الجملة أو تاجر التجزئة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ب -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أصول والالتزامات الخاصة بصاحب العمل بموجب خطط مزايا العاملين</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15000" y="609480"/>
            <a:ext cx="281952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عتراف والقياس</a:t>
            </a:r>
            <a:endParaRPr b="0" lang="en-US" sz="3200" spc="-1" strike="noStrike">
              <a:solidFill>
                <a:srgbClr val="e3e3ff"/>
              </a:solidFill>
              <a:latin typeface="Arial"/>
            </a:endParaRPr>
          </a:p>
        </p:txBody>
      </p:sp>
      <p:sp>
        <p:nvSpPr>
          <p:cNvPr id="132" name=""/>
          <p:cNvSpPr/>
          <p:nvPr/>
        </p:nvSpPr>
        <p:spPr>
          <a:xfrm>
            <a:off x="609480" y="1371600"/>
            <a:ext cx="807732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شركة التأمين على وجه الخصوص أن :</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ضمن الالتزامات أية مخصصات للمطالبات المستقبلية المحتملة ، إذا كانت تلك المطالبات تنشأ بموجب عقود تأمين غير قائمة فى وقت إعداد التقرير المالى ( على سبيل المثال : مخصصات الكوارث).</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قوم بإجراء اختبار مدى كفاية الالتزامات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لغى التزامات التأمين ( أو جزء منها) من ميزانيتها عندما و فقط عندما يتم انقضائها ، أى عندما يتم الإبراء من الالتزامات الواردة فى العقد أو إلغائها أو انقضائها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تجرى مقاصة بين البنود التالية :</a:t>
            </a:r>
            <a:endParaRPr b="0" lang="en-US" sz="2400" spc="-1" strike="noStrike">
              <a:solidFill>
                <a:srgbClr val="ffffff"/>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صول إعادة التأمين مقابل التزامات التأمين المتصلة بها .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إيرادات أو المصروفات الناشئة عن عقود إعادة التأمين مقابل المصروفات أو الإيرادات الناشئة عن عقود التأمين المتصلة بها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57600" y="838080"/>
            <a:ext cx="50292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ضمحلال قيمة أصول إعادة التامين</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34" name="PlaceHolder 2"/>
          <p:cNvSpPr>
            <a:spLocks noGrp="1"/>
          </p:cNvSpPr>
          <p:nvPr>
            <p:ph/>
          </p:nvPr>
        </p:nvSpPr>
        <p:spPr>
          <a:xfrm>
            <a:off x="838080" y="2209680"/>
            <a:ext cx="4724640" cy="2895840"/>
          </a:xfrm>
          <a:prstGeom prst="rect">
            <a:avLst/>
          </a:prstGeom>
          <a:noFill/>
          <a:ln w="0">
            <a:noFill/>
          </a:ln>
        </p:spPr>
        <p:txBody>
          <a:bodyPr lIns="90000" rIns="90000" tIns="46800" bIns="46800" anchor="t">
            <a:normAutofit fontScale="95000"/>
          </a:bodyPr>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تعرض أصل إعادة التأمين الخاص بمعيدى التامين الصادر فى عقد إعادة التامين لاضمحلال فى قيمته يجب على معيد التامين الصادر تخفيض القيمة الدفترية للأصل بناءً على تعرضه لاضمحلال قيمته ويجب عليه أيضاً قيد الخسائر الناجمة عن اضمحلال القيمة </a:t>
            </a:r>
            <a:r>
              <a:rPr b="1" lang="ar-EG" sz="2400" spc="-1" strike="noStrike" u="sng">
                <a:solidFill>
                  <a:srgbClr val="ffffff"/>
                </a:solidFill>
                <a:uFillTx/>
                <a:latin typeface="Arial"/>
              </a:rPr>
              <a:t>ضمن الأرباح أوالخسائ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91120" y="228240"/>
            <a:ext cx="4495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غييرات فى السياسة المحاسبي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761760" y="1600200"/>
            <a:ext cx="792468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وز لشركة التامين أن تغير سياستها المحاسبية بالنسبة لعقود التامين ويقتصر ذلك فى حالة ما إذا كان من شأن التغيير أن يجعل القوائم المالية أكثر موضوعية لمتخذى القرار الاقتصادى وليست أقل مصداقية أو تجعلها أكثر مصداقية و ليست أقل موضوعية . </a:t>
            </a:r>
            <a:endParaRPr b="0" lang="en-US" sz="2800" spc="-1" strike="noStrike">
              <a:solidFill>
                <a:srgbClr val="ffffff"/>
              </a:solidFill>
              <a:latin typeface="Arial"/>
            </a:endParaRPr>
          </a:p>
          <a:p>
            <a:pPr marL="5421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كى تبرر شركة التأمين تغيير سياستها المحاسبية فيما يتصل بعقود التامين عليها ان تفصح عن التغيير الذى يجعل القوائم المالية الخاصة بها أقرب إلى الالتزام بمتطلبات المعايير المبينة فى معيار المحاسبة المصرى رقم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1523520"/>
            <a:ext cx="7924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إلا انه ليس من المفترض أن يحدث هذا التغيير التزاماً كاملاً بتلك المعايير وفيما يلى تناولاً لبعض الأمور الهامة ذات الصلة:</a:t>
            </a:r>
            <a:endParaRPr b="0" lang="en-US" sz="2800" spc="-1" strike="noStrike">
              <a:solidFill>
                <a:srgbClr val="e3e3ff"/>
              </a:solidFill>
              <a:latin typeface="Arial"/>
            </a:endParaRPr>
          </a:p>
        </p:txBody>
      </p:sp>
      <p:sp>
        <p:nvSpPr>
          <p:cNvPr id="138" name="PlaceHolder 2"/>
          <p:cNvSpPr>
            <a:spLocks noGrp="1"/>
          </p:cNvSpPr>
          <p:nvPr>
            <p:ph/>
          </p:nvPr>
        </p:nvSpPr>
        <p:spPr>
          <a:xfrm>
            <a:off x="3885840" y="3505320"/>
            <a:ext cx="4800600" cy="2209680"/>
          </a:xfrm>
          <a:prstGeom prst="rect">
            <a:avLst/>
          </a:prstGeom>
          <a:noFill/>
          <a:ln w="0">
            <a:noFill/>
          </a:ln>
        </p:spPr>
        <p:txBody>
          <a:bodyPr lIns="90000" rIns="90000" tIns="46800" bIns="46800" anchor="t">
            <a:normAutofit/>
          </a:bodyPr>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سعار الفائدة الحالي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مرار الممارسات القائم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حاسبة الظ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3:10:53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